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T+P4U-transparentwhitebkgrd" descr=""/>
          <p:cNvPicPr/>
          <p:nvPr/>
        </p:nvPicPr>
        <p:blipFill>
          <a:blip r:embed="rId2"/>
          <a:stretch/>
        </p:blipFill>
        <p:spPr>
          <a:xfrm>
            <a:off x="8731080" y="3279600"/>
            <a:ext cx="297000" cy="352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990720" y="533520"/>
            <a:ext cx="69339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How Science wo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Verdana"/>
              </a:rPr>
              <a:t>Reliable evidence</a:t>
            </a:r>
            <a:br>
              <a:rPr sz="5400"/>
            </a:b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9900"/>
                </a:solidFill>
                <a:latin typeface="Verdana"/>
              </a:rPr>
              <a:t>Valid evide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854360"/>
            <a:ext cx="93996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3860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iscuss which of the following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lid evi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14600"/>
            <a:ext cx="71629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Measuring the length of a mag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o decide its streng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03848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No, thi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valid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long magnet can be strong or wea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short magnet can be strong or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257800" y="2438280"/>
            <a:ext cx="3276720" cy="459720"/>
            <a:chOff x="5257800" y="2438280"/>
            <a:chExt cx="3276720" cy="459720"/>
          </a:xfrm>
        </p:grpSpPr>
        <p:sp>
          <p:nvSpPr>
            <p:cNvPr id="90" name=""/>
            <p:cNvSpPr/>
            <p:nvPr/>
          </p:nvSpPr>
          <p:spPr>
            <a:xfrm>
              <a:off x="5257800" y="2438280"/>
              <a:ext cx="3276720" cy="4572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596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721 Md BT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721 M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629400" y="3124080"/>
            <a:ext cx="1905120" cy="459720"/>
            <a:chOff x="6629400" y="3124080"/>
            <a:chExt cx="1905120" cy="459720"/>
          </a:xfrm>
        </p:grpSpPr>
        <p:sp>
          <p:nvSpPr>
            <p:cNvPr id="94" name=""/>
            <p:cNvSpPr/>
            <p:nvPr/>
          </p:nvSpPr>
          <p:spPr>
            <a:xfrm>
              <a:off x="6629400" y="3124080"/>
              <a:ext cx="1905120" cy="4572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572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721 Md BT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721 M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okesLaw-1springonly" descr=""/>
          <p:cNvPicPr/>
          <p:nvPr/>
        </p:nvPicPr>
        <p:blipFill>
          <a:blip r:embed="rId1"/>
          <a:stretch/>
        </p:blipFill>
        <p:spPr>
          <a:xfrm>
            <a:off x="6877080" y="762120"/>
            <a:ext cx="1758960" cy="427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1854360"/>
            <a:ext cx="93996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216320"/>
            <a:ext cx="251460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3860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iscuss which of the following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lid evi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14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es, th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valid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Measuring the extension of a spr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o find the force pulling o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1854360"/>
            <a:ext cx="93996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3860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iscuss which of the following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lid evi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514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Measuring the volume of a firework to find the energy i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No, thi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valid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large or a small firework can ha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lot of energy or very little energ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epending on the chemicals in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reworks-big+small" descr=""/>
          <p:cNvPicPr/>
          <p:nvPr/>
        </p:nvPicPr>
        <p:blipFill>
          <a:blip r:embed="rId1"/>
          <a:stretch/>
        </p:blipFill>
        <p:spPr>
          <a:xfrm>
            <a:off x="6896160" y="2438280"/>
            <a:ext cx="1485720" cy="17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231920"/>
            <a:ext cx="19051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6240" y="4114800"/>
            <a:ext cx="129564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114800"/>
            <a:ext cx="99072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2193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econdary evidence is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collected by someone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econdary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362320"/>
            <a:ext cx="71629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may find it in a book or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always check to see if it is reliable and va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800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231920"/>
            <a:ext cx="19051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2193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econdary evidence is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collected by someone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econdary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36232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me data on the pollution from a c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s published by the car manufactu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114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ould you trust this evidenc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ithout further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ar" descr=""/>
          <p:cNvPicPr/>
          <p:nvPr/>
        </p:nvPicPr>
        <p:blipFill>
          <a:blip r:embed="rId1"/>
          <a:stretch/>
        </p:blipFill>
        <p:spPr>
          <a:xfrm>
            <a:off x="5562720" y="2103480"/>
            <a:ext cx="2514600" cy="82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162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wis721 Md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1231920"/>
            <a:ext cx="19051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2193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econdary evidence is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collected by someone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econdary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362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me data on the radiation emit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rom a mobile phone is publish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y the phon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572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ould you trust this evidenc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ithout further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bilephone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9256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905120"/>
            <a:ext cx="7543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66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ing of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0066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meant by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0066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meant by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9220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now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2120" y="2252520"/>
            <a:ext cx="73152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ing of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meant by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meant by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9000" y="609480"/>
            <a:ext cx="5105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lear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95680" y="533520"/>
            <a:ext cx="4038840" cy="1828800"/>
          </a:xfrm>
          <a:prstGeom prst="cloudCallout">
            <a:avLst>
              <a:gd name="adj1" fmla="val -96148"/>
              <a:gd name="adj2" fmla="val 8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37240" y="87624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…evidence …reliable …vali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ofM-fromTechSetTIFF+Transparent" descr=""/>
          <p:cNvPicPr/>
          <p:nvPr/>
        </p:nvPicPr>
        <p:blipFill>
          <a:blip r:embed="rId1"/>
          <a:stretch/>
        </p:blipFill>
        <p:spPr>
          <a:xfrm>
            <a:off x="868320" y="2362320"/>
            <a:ext cx="2838600" cy="409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1752480"/>
            <a:ext cx="3886200" cy="2210040"/>
          </a:xfrm>
          <a:prstGeom prst="cloudCallout">
            <a:avLst>
              <a:gd name="adj1" fmla="val -95995"/>
              <a:gd name="adj2" fmla="val 28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73520" y="2095560"/>
            <a:ext cx="3200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ut what do they mean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4900680"/>
            <a:ext cx="541008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: 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29528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is a measurement, or measu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you read a thermomet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eaker+thermom+Transparent" descr=""/>
          <p:cNvPicPr/>
          <p:nvPr/>
        </p:nvPicPr>
        <p:blipFill>
          <a:blip r:embed="rId1"/>
          <a:stretch/>
        </p:blipFill>
        <p:spPr>
          <a:xfrm>
            <a:off x="6888240" y="2004840"/>
            <a:ext cx="1544400" cy="320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3186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temperature readings are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948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70</a:t>
            </a:r>
            <a:r>
              <a:rPr b="0" lang="en-US" sz="2800" spc="-1" strike="noStrike" baseline="38000">
                <a:solidFill>
                  <a:srgbClr val="0000ff"/>
                </a:solidFill>
                <a:latin typeface="Swis721 Md BT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C,  68</a:t>
            </a:r>
            <a:r>
              <a:rPr b="0" lang="en-US" sz="2800" spc="-1" strike="noStrike" baseline="38000">
                <a:solidFill>
                  <a:srgbClr val="0000ff"/>
                </a:solidFill>
                <a:latin typeface="Swis721 Md BT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C,  66</a:t>
            </a:r>
            <a:r>
              <a:rPr b="0" lang="en-US" sz="2800" spc="-1" strike="noStrike" baseline="38000">
                <a:solidFill>
                  <a:srgbClr val="0000ff"/>
                </a:solidFill>
                <a:latin typeface="Swis721 Md BT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C,  64</a:t>
            </a:r>
            <a:r>
              <a:rPr b="0" lang="en-US" sz="2800" spc="-1" strike="noStrike" baseline="38000">
                <a:solidFill>
                  <a:srgbClr val="0000ff"/>
                </a:solidFill>
                <a:latin typeface="Swis721 Md BT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C,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997520"/>
            <a:ext cx="5334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Strictly speaking, ‘</a:t>
            </a:r>
            <a:r>
              <a:rPr b="0" lang="en-US" sz="2400" spc="-1" strike="noStrike">
                <a:solidFill>
                  <a:srgbClr val="0000ff"/>
                </a:solidFill>
                <a:latin typeface="Swis721 Md BT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’ is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472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1 ‘</a:t>
            </a:r>
            <a:r>
              <a:rPr b="0" lang="en-US" sz="2400" spc="-1" strike="noStrike">
                <a:solidFill>
                  <a:srgbClr val="0000ff"/>
                </a:solidFill>
                <a:latin typeface="Swis721 Md BT"/>
              </a:rPr>
              <a:t>datum</a:t>
            </a: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’,  2 data,  3 data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: 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95280"/>
            <a:ext cx="541044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is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which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judged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you investigate cool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aker+thermom+Transparent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544760" cy="320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3459240"/>
            <a:ext cx="57150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temperature data is relev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is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length of the thermome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relev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457880"/>
            <a:ext cx="160020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4520" y="3200400"/>
            <a:ext cx="16002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: 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2952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is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which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judged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14600"/>
            <a:ext cx="6477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evidence needs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79560" y="3809880"/>
            <a:ext cx="3606840" cy="533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540160"/>
            <a:ext cx="2743200" cy="533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386000"/>
            <a:ext cx="72392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Reliable data is evidence you can tr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f someone else did the same experim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y would get the sam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60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r evidence will be more relia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f you repeat your rea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95680"/>
            <a:ext cx="39625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36880" y="5486400"/>
            <a:ext cx="9144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486400"/>
            <a:ext cx="22608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Reliability          </a:t>
            </a:r>
            <a:r>
              <a:rPr b="0" lang="en-US" sz="2800" spc="-1" strike="noStrike">
                <a:solidFill>
                  <a:srgbClr val="000000"/>
                </a:solidFill>
                <a:latin typeface="Swis721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86400" y="1062000"/>
            <a:ext cx="35402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1244520"/>
            <a:ext cx="52578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3 students measure the time for 1 swing of a pendul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041800"/>
            <a:ext cx="4724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iscuss which method is the most reliable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243160"/>
            <a:ext cx="510552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5000"/>
              </a:lnSpc>
              <a:buClr>
                <a:srgbClr val="990099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Jo measures 1 s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876"/>
              </a:spcBef>
              <a:buClr>
                <a:srgbClr val="990099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mma measures 1 swing, but 20 times, and calculates the average (mean)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876"/>
              </a:spcBef>
              <a:buClr>
                <a:srgbClr val="990099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Jack measures 20 swings and divides the time by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43280" y="3657600"/>
            <a:ext cx="147348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4400" y="1854360"/>
            <a:ext cx="1473480" cy="457200"/>
          </a:xfrm>
          <a:prstGeom prst="rect">
            <a:avLst/>
          </a:prstGeom>
          <a:solidFill>
            <a:srgbClr val="99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00880" y="1409760"/>
            <a:ext cx="13716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54280" y="2971800"/>
            <a:ext cx="1371600" cy="457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3860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lid data is evidence that is reliable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Swis721 Md B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which is relevant to the ques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eing investig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933640"/>
            <a:ext cx="74678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Just being reliable evidence is not enou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evidence has to be relevant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33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00:01Z</dcterms:created>
  <dc:creator>Keith Johnson   keith@timetabler.com    (c) 2006</dc:creator>
  <dc:description/>
  <dc:language>en-US</dc:language>
  <cp:lastModifiedBy>sthemmingi</cp:lastModifiedBy>
  <dcterms:modified xsi:type="dcterms:W3CDTF">2006-07-12T08:35:18Z</dcterms:modified>
  <cp:revision>254</cp:revision>
  <dc:subject>How Science works</dc:subject>
  <dc:title>How Science works : reliability and validity</dc:title>
</cp:coreProperties>
</file>